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8C515E-D145-4889-B524-3E81F45D9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🔹 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Ilustrasi: Anggota gereja tua yang pernah aktif berhenti menghadiri gereja, mengelak daripada bertentang mata dan kelihatan takut apabila ditanya tentang penjaga mere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2125FC-1DB2-493E-A570-9A087DFB5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2CE9DE-BCDA-4468-8ADE-9B1B32E94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D4AF91-19E0-46A4-809F-207325DA7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Ilustrasi: 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Gereja mewujudkan “Pasukan Penjagaan Kanan” yang memeriksa anggota gereja tua setiap mingg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37A83A-E909-412B-8A59-E1385291D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86CBE9-5E13-4CB8-AD60-68ED68856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6BC727-F311-4691-BB9B-ACF002F5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Illustration: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 An elderly church member is financially manipulated by a caregiver and slowly becomes withdrawn from church life.</a:t>
            </a: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49A5D5-BFBE-495E-A6E9-395A541CC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A0C5BE-49A2-4F74-820C-2C094EB60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A6C-30D2-475C-A4C8-99E2FECE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49E-676A-4F2E-9510-79B972A6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72A-7348-4AAF-9718-1D9E8601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0B2-0A5E-4BD0-BE4F-B0F914F5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6B4C-0C38-4890-AC48-E0CA85AE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8C41-71CA-4315-A0C1-149FA078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F946-08CB-4E35-AC0C-8F9F9E9B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EEDE-D554-46F6-B81D-F339B37E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7D41-2D16-4DFB-A421-0D0481CD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80FE-6317-4336-B942-A8BCFC7B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A1EC-BE0D-4874-BBAE-439DD187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800-FF96-4469-94A5-7EB5F61A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22C5-4E38-46BF-B543-0F617AA8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8A4F-2F24-4B0A-937E-1DFF5163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7905-6E2E-43D7-AD91-8D8A3CBB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5791-450D-4D65-9C70-E2B8ECEF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5179-6CE5-4E33-8E29-D5CA9C82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5A69-91F5-4DBD-B3F0-906171A0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48A-6A9D-4FFF-903D-1E882745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E28-B3DD-4505-A6B7-D1A91B14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71E-4E78-4B89-BCBE-9FBB09B3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2F7-998D-4E8C-BA3B-A7FBBAC9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7A0-B350-413C-B07B-ECE83D8C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B0B-6685-479A-A3E2-2C8D69C4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pt-BR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92718F-A42B-42EF-B16C-A7BDD1670F7B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725729-D11E-48EE-8320-C2F30CBAB60A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79440" y="2048040"/>
            <a:ext cx="4549320" cy="3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asis MT Pro Light"/>
              </a:rPr>
              <a:t>Bagaimana Gereja Bol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79440" y="3880080"/>
            <a:ext cx="3730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a726"/>
                </a:solidFill>
                <a:latin typeface="Microsoft GothicNeo Light"/>
                <a:ea typeface="Microsoft GothicNeo Light"/>
              </a:rPr>
              <a:t>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24880" y="6211800"/>
            <a:ext cx="3849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Disediakan oleh Raquel Ar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79440" y="2436120"/>
            <a:ext cx="3890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a726"/>
                </a:solidFill>
                <a:latin typeface="Microsoft GothicNeo Light"/>
                <a:ea typeface="Microsoft GothicNeo Light"/>
              </a:rPr>
              <a:t>MENJAGA DAN MELIND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br>
              <a:rPr sz="2800"/>
            </a:br>
            <a:r>
              <a:rPr b="1" lang="en-US" sz="2800" spc="-1" strike="noStrike">
                <a:solidFill>
                  <a:srgbClr val="f2f2f2"/>
                </a:solidFill>
                <a:latin typeface="Calibri Light"/>
              </a:rPr>
              <a:t>III. </a:t>
            </a:r>
            <a:r>
              <a:rPr b="1" lang="en-US" sz="3200" spc="-1" strike="noStrike">
                <a:solidFill>
                  <a:srgbClr val="f2f2f2"/>
                </a:solidFill>
                <a:latin typeface="Calibri Light"/>
              </a:rPr>
              <a:t>Mengenali Tanda-Tanda</a:t>
            </a:r>
            <a:br>
              <a:rPr sz="3200"/>
            </a:br>
            <a:r>
              <a:rPr b="1" lang="en-US" sz="3200" spc="-1" strike="noStrike">
                <a:solidFill>
                  <a:srgbClr val="f2f2f2"/>
                </a:solidFill>
                <a:latin typeface="Calibri Light"/>
              </a:rPr>
              <a:t>     Penderaan Warga Emas </a:t>
            </a:r>
            <a:br>
              <a:rPr sz="3200"/>
            </a:b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anda Amaran Penderaa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Kecederaan yang tidak dapat dijelaskan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(lebam, melecur, patah tulang)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rubahan tingkah laku yang mendadak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(penarikan diri, kemurungan)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Takut kepada penjaga atau ahli keluarga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il tidak dibayar, wang hilang, kesusahan kewangan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Kebersihan yang buruk, kekurangan zat makanan, kudis katil 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(pengabaian)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rnahkah anda melihat tanda-tanda penderaan orang tua dalam komuniti anda? 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Apakah tindakan anda?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rgbClr val="c00000"/>
                </a:solidFill>
                <a:latin typeface="Calibri Light"/>
              </a:rPr>
              <a:t>Perbincangan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IV. Apakah yang boleh</a:t>
            </a: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     dilakukan oleh Gereja? </a:t>
            </a:r>
            <a:br>
              <a:rPr sz="40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1. Jadilah Komuniti Berwaspada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Latih 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astor, ketua gereja, diakon dan anggota gereja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untuk mengenali dan melaporkan penderaan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Lawati anggota gereja yang lebih tua dengan 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kerap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(rumah, rumah penjagaan)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Galakkan orang tua untuk mempunyai 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rakan kongsi bertanggungjawab yang boleh dipercayai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(rohani dan kewangan)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br>
              <a:rPr sz="40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. Wujudkan Persekitaran Gereja yang Selamat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rogram Pelayanan Orang Tua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Kumpulan sokongan, lawatan rumah, aktiviti sosial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engkel Kesedaran Kewangan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Didik orang tua tentang komplot dan penipuan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layanan Doa dan Kaunseling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Tawarkan penjagaan rohani dan emosi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br>
              <a:rPr sz="40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. Membela dan Campur Tangan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ekerjasama dengan 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ihak berkuasa 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tempatan untuk melaporkan penderaan apabila perlu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Sediakan 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antuan kecemasan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 (makanan, tempat tinggal, bantuan rasmi)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Tawarkan 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njagaan selingan 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untuk penjaga yang terbeban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Apakah langkah praktikal yang boleh diambil oleh gereja anda untuk melindungi anggota gereja tua?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rgbClr val="c00000"/>
                </a:solidFill>
                <a:latin typeface="Calibri Light"/>
              </a:rPr>
              <a:t>Perbincanga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V. Mengambil Tindakan:</a:t>
            </a: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    Komitmen untuk Melindungi </a:t>
            </a:r>
            <a:br>
              <a:rPr sz="40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Aktiviti Kumpulan: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Setiap peserta menulis </a:t>
            </a:r>
            <a:r>
              <a:rPr b="0" i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satu tindakan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yang boleh mereka lakukan untuk membantu mencegah penderaan orang tua. 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incangkan cara gereja boleh melaksanakan </a:t>
            </a:r>
            <a:r>
              <a:rPr b="0" i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layanan Perlindungan Orang Tua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VI. Doa Penutup dan Galakan </a:t>
            </a:r>
            <a:br>
              <a:rPr sz="40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1. Jadilah Komuniti Berwaspada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Ayat Akhir: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 Amsal 31:8, 9—“Bukalah mulutmu demi mempertahankan orang bisu” (AVB). 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erdoa untuk 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kebijaksanaan, perlindungan, dan belas kasihan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untuk orang tua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Gereja mesti menjadi tempat 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orang tua dihargai, dilindungi dan dihargai. 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Dengan sedar, proaktif, dan seperti Kristus dalam jagaan kita, kita boleh 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menghormati Tuhan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dengan menghormati orang tua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c00000"/>
                </a:solidFill>
                <a:latin typeface="Calibri Light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c00000"/>
                </a:solidFill>
                <a:latin typeface="Calibri Light"/>
              </a:rPr>
              <a:t>Kesimpulan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8944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I. Pendahuluan: </a:t>
            </a: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   Objektif</a:t>
            </a:r>
            <a:br>
              <a:rPr sz="36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pt-BR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Untuk meningkatkan kesedaran tentang penderaan </a:t>
            </a:r>
            <a:r>
              <a:rPr b="1" lang="pt-BR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orang tua</a:t>
            </a:r>
            <a:r>
              <a:rPr b="0" lang="pt-BR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, mengenali tanda-tanda, dan melengkapkan gereja untuk </a:t>
            </a:r>
            <a:r>
              <a:rPr b="1" lang="pt-BR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menjaga dan melindungi </a:t>
            </a:r>
            <a:r>
              <a:rPr b="0" lang="pt-BR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orang tua dalam gereja dan komuniti mereka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yat Kunci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Janganlah singkirkan aku dalam usia tua;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jangan tinggalkan aku ketika kekuatanku hilang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Mazmur 71:9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Siapakah seorang warga emas yang telah banyak memberi kesan kepada kehidupan anda?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c00000"/>
                </a:solidFill>
                <a:latin typeface="Calibri Light"/>
              </a:rPr>
              <a:t>Aktiviti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Calibri Light"/>
              </a:rPr>
              <a:t>Icebreaker</a:t>
            </a:r>
            <a:r>
              <a:rPr b="1" lang="en-US" sz="3600" spc="-1" strike="noStrike">
                <a:solidFill>
                  <a:srgbClr val="c00000"/>
                </a:solidFill>
                <a:latin typeface="Calibri Light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Mengapakah anda fikir penderaan orang tua sering diabaikan?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rgbClr val="c00000"/>
                </a:solidFill>
                <a:latin typeface="Calibri Light"/>
              </a:rPr>
              <a:t>Perbincangan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II. Memahami Penderaan</a:t>
            </a: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     Orang Tua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1. Apakah Penderaan Orang Tua?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760" y="217440"/>
            <a:ext cx="74581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2400" spc="-1" strike="noStrike">
                <a:solidFill>
                  <a:srgbClr val="c00000"/>
                </a:solidFill>
                <a:latin typeface="Calibri Light"/>
              </a:rPr>
              <a:t>Penderaan orang tua ialah sebarang bentuk penganiayaan yang memudaratkan atau membahayakan orang tua, termasuk: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89800" y="2001240"/>
            <a:ext cx="72910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nderaan Fizikal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Memukul, menolak, sekatan yang tidak betul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nderaan Emosi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Penghinaan, ancaman, pengabaian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Eksploitasi Kewangan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Kecurian, penipuan, penyalahgunaan wang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ngabaian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Gagal menyediakan keperluan asas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nderaan Rohani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Pengasingan daripada gereja atau aktiviti berasaskan kepercayaan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br>
              <a:rPr sz="36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andangan Alkitab tentang Menjaga Orang Tua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Imamat 19:32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</a:t>
            </a:r>
            <a:r>
              <a:rPr b="0" i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“Bangkitlah berdiri di hadapan orang yang sudah beruban, hormatilah orang yang sudah tua” 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(AVB).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1 Timotius 5:8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</a:t>
            </a:r>
            <a:r>
              <a:rPr b="0" i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“Sekiranya seseorang tidak menjaga sanak saudaranya, apatah lagi seisi rumahnya sendiri, maka dia menyangkal iman” 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(NIV).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Yakobus 1:27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Kita dipanggil untuk menjaga mereka yang lemah.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agaimana kita dapat melihat hati Tuhan untuk orang tua dalam Kitab Suci? 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rgbClr val="c00000"/>
                </a:solidFill>
                <a:latin typeface="Calibri Light"/>
              </a:rPr>
              <a:t>Perbincangan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  <Words>723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4T12:16:54Z</dcterms:created>
  <dc:creator>Erika Miike</dc:creator>
  <dc:description/>
  <dc:language>en-US</dc:language>
  <cp:lastModifiedBy>Jay Lawrence (MAUM)</cp:lastModifiedBy>
  <dcterms:modified xsi:type="dcterms:W3CDTF">2025-07-31T07:27:10Z</dcterms:modified>
  <cp:revision>36</cp:revision>
  <dc:subject/>
  <dc:title>God’s lo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Widescreen</vt:lpwstr>
  </property>
  <property fmtid="{D5CDD505-2E9C-101B-9397-08002B2CF9AE}" pid="4" name="Slides">
    <vt:r8>18</vt:r8>
  </property>
</Properties>
</file>